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188F-A8BC-424F-A063-0DE1F1863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1E75-2923-491D-98D0-52BF0BDC5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6AD-5FFE-4868-9E28-4B1FAC91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8FBE-68E3-4ACB-B55E-EBA7401F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6AC-43E3-44A3-98C8-F7159B66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D1A-DDE7-44D9-A7B9-C9E0CFC7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883-2CB1-40BF-ACFD-018C14FD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1C3-344C-44DB-AD4A-3E80E898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697-366A-4456-A4FB-D9E87020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48F-B19E-4A91-9187-B923E8FE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CC1-8609-470D-95D4-B226FA9C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424-9BE9-40D6-BC34-201F6251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A35-C198-47A7-BB40-1E2A9773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738-5475-4331-9F9C-F8664C2E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EFE5-1890-4455-B06E-B2F6B298B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African American Senat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: Julia Buniak</a:t>
            </a:r>
            <a:r>
              <a:rPr b="0" lang="en-US" sz="4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20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00"/>
            </a:gs>
            <a:gs pos="5000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Lif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fayetteville_nc"/>
          <p:cNvPicPr/>
          <p:nvPr/>
        </p:nvPicPr>
        <p:blipFill>
          <a:blip r:embed="rId1"/>
          <a:stretch/>
        </p:blipFill>
        <p:spPr>
          <a:xfrm>
            <a:off x="0" y="417204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80880" y="266688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map of Fayetteville, North Carolina where Hiram Revels was bo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market-house-fayetteville-nc"/>
          <p:cNvPicPr/>
          <p:nvPr/>
        </p:nvPicPr>
        <p:blipFill>
          <a:blip r:embed="rId2"/>
          <a:stretch/>
        </p:blipFill>
        <p:spPr>
          <a:xfrm>
            <a:off x="6638760" y="0"/>
            <a:ext cx="2505240" cy="2819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6629400" y="2971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market house in Fayetteville, North Carol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Ame sheild"/>
          <p:cNvPicPr/>
          <p:nvPr/>
        </p:nvPicPr>
        <p:blipFill>
          <a:blip r:embed="rId1"/>
          <a:stretch/>
        </p:blipFill>
        <p:spPr>
          <a:xfrm>
            <a:off x="2971800" y="1905120"/>
            <a:ext cx="2565360" cy="2732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276720" y="4876920"/>
            <a:ext cx="19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AME Church Shield where Hiram Revels became the mini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vil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north and south flags.jpg"/>
          <p:cNvPicPr/>
          <p:nvPr/>
        </p:nvPicPr>
        <p:blipFill>
          <a:blip r:embed="rId1"/>
          <a:stretch/>
        </p:blipFill>
        <p:spPr>
          <a:xfrm>
            <a:off x="2895480" y="2362320"/>
            <a:ext cx="3060720" cy="2590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594360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picture of the Union and Confederate flags of the Civil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838080" y="312408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ram Revels was on the Union side, who were fighting for the slave’s freed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hiram revels and other colored government officals.jpg"/>
          <p:cNvPicPr/>
          <p:nvPr/>
        </p:nvPicPr>
        <p:blipFill>
          <a:blip r:embed="rId1"/>
          <a:stretch/>
        </p:blipFill>
        <p:spPr>
          <a:xfrm>
            <a:off x="3276720" y="2590920"/>
            <a:ext cx="2498760" cy="1968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295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Hiram Revels (Left) and other black government officials who served in off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5638680" y="2819520"/>
            <a:ext cx="167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ram Revels was still the first black to serve in the off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He Had to Accomplis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ivil right act of 1866.jpg"/>
          <p:cNvPicPr/>
          <p:nvPr/>
        </p:nvPicPr>
        <p:blipFill>
          <a:blip r:embed="rId1"/>
          <a:stretch/>
        </p:blipFill>
        <p:spPr>
          <a:xfrm>
            <a:off x="2716200" y="2133720"/>
            <a:ext cx="3627360" cy="2743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3733920" y="48769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Civil Rights Act of 18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ter His Te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alcorn college.jpg"/>
          <p:cNvPicPr/>
          <p:nvPr/>
        </p:nvPicPr>
        <p:blipFill>
          <a:blip r:embed="rId1"/>
          <a:stretch/>
        </p:blipFill>
        <p:spPr>
          <a:xfrm>
            <a:off x="3124080" y="2438280"/>
            <a:ext cx="3206880" cy="244656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3733920" y="487692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Alcorn College where Hiram Revels became the presid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Hiram Revels Picture.jpg"/>
          <p:cNvPicPr/>
          <p:nvPr/>
        </p:nvPicPr>
        <p:blipFill>
          <a:blip r:embed="rId1"/>
          <a:stretch/>
        </p:blipFill>
        <p:spPr>
          <a:xfrm>
            <a:off x="2666880" y="1828800"/>
            <a:ext cx="2133720" cy="3200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600200" y="5029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ram Revels September 27, 1827- January 16, 19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iram revels tomb.jpg"/>
          <p:cNvPicPr/>
          <p:nvPr/>
        </p:nvPicPr>
        <p:blipFill>
          <a:blip r:embed="rId2"/>
          <a:stretch/>
        </p:blipFill>
        <p:spPr>
          <a:xfrm>
            <a:off x="4800600" y="1828800"/>
            <a:ext cx="1981080" cy="3200400"/>
          </a:xfrm>
          <a:prstGeom prst="rect">
            <a:avLst/>
          </a:prstGeom>
          <a:ln w="0">
            <a:noFill/>
          </a:ln>
        </p:spPr>
      </p:pic>
    </p:spTree>
  </p:cSld>
  <p:transition advTm="120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4:14:58Z</dcterms:created>
  <dc:creator>Owner</dc:creator>
  <dc:description/>
  <dc:language>en-US</dc:language>
  <cp:lastModifiedBy>Owner</cp:lastModifiedBy>
  <dcterms:modified xsi:type="dcterms:W3CDTF">2012-02-15T14:28:35Z</dcterms:modified>
  <cp:revision>18</cp:revision>
  <dc:subject/>
  <dc:title>First African American Senator </dc:title>
</cp:coreProperties>
</file>